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74A2-F20E-4A35-A343-115A72C43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B345-D2A5-435B-AA2B-E8AFFCBE1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C011-8EF2-4EE1-BCBB-6DCDE6708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3689-3E49-4926-8BB8-B5EDF866F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6F13-3220-49AF-9FD7-F0DA6DDD5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135A-5653-4869-BA63-6AE8B5164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C233-B9E2-4976-B46F-CDD085708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C782-7966-469A-AD27-AB03E580D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1C0C-5EF2-4B64-B5ED-72A426C3D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7A37-393B-445E-919C-4FC848275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8F59-EFD3-47AC-B93F-FBA9B1B06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D07B-4EF4-4A09-87D0-7B3EE49A9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2B8B9-5738-4401-A9A8-40E2B5672D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ducción del Destacamento de Cabez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4000" y="3141360"/>
            <a:ext cx="784836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284720" y="249228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2924280"/>
            <a:ext cx="43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rmalmente avanza en column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427640" y="314172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435640" y="2781360"/>
            <a:ext cx="30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 busca máxima velocidad y un mayor ocultamient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284720" y="32828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458136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Jefe de Escuadra se ubicará en el punto donde mejor pueda controlar su Unid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284720" y="5013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445000"/>
            <a:ext cx="777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 seguridad se basa, fundamentalmente, en la observació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27280" y="206064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 Destacamento de Cabez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71640" y="3716280"/>
            <a:ext cx="763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68360" y="3645000"/>
            <a:ext cx="820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orden de la marcha es planeado en base al empleo futuro de las Unidad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284720" y="4149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ducción del Destacamento de Cabez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371628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liegue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08000" y="1773360"/>
            <a:ext cx="360360" cy="4319640"/>
          </a:xfrm>
          <a:custGeom>
            <a:avLst/>
            <a:gdLst>
              <a:gd name="textAreaLeft" fmla="*/ 230400 w 360360"/>
              <a:gd name="textAreaRight" fmla="*/ 360720 w 360360"/>
              <a:gd name="textAreaTop" fmla="*/ 112320 h 4319640"/>
              <a:gd name="textAreaBottom" fmla="*/ 4207320 h 431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95640" y="1916280"/>
            <a:ext cx="648000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o la seguridad del Pelotón se basa en la observación la Punta no se replegará hacia los flanc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 encontrarse con resistencia enemiga los elementos del Destacamento de Cabeza atacará sin vacilar al enemigo, contestando el fuego y luego se repliega y ataca hasta neutralizar la acción del enemig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s armas de apoyo son movilizadas hacia posiciones de tiro avanzad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í el Destacamento de cabeza se ve incapacitada para reducir la resistencia enemiga; la inmoviliza con el fuego y localiza los flancos para informarle al Comandante de la Compañía de Vanguardia para que elabore el plan de ataqu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ducción del Destacamento de Cabez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scuadra de Fusileros como cabeza de Vanguardia.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55640" y="2149560"/>
            <a:ext cx="7561440" cy="40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6T08:44:56Z</dcterms:created>
  <dc:creator>Bj</dc:creator>
  <dc:description/>
  <dc:language>en-US</dc:language>
  <cp:lastModifiedBy>Bj</cp:lastModifiedBy>
  <dcterms:modified xsi:type="dcterms:W3CDTF">2007-04-06T09:16:55Z</dcterms:modified>
  <cp:revision>2</cp:revision>
  <dc:subject/>
  <dc:title>Conducción del Destacamento de Cabeza.</dc:title>
</cp:coreProperties>
</file>